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DE2-2FCF-45DB-896B-E81ACDB0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2D0-74FC-428C-8EE1-02AC2CBF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DD8-36A1-4D7A-B0B0-87B96D12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37D-C484-43E2-910E-16D65CDE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974F-85E9-4832-B554-954CF980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C660-F618-4699-92DB-FBC35F6A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F26D-8C18-4667-BE42-C0C17541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78D4-074D-4293-8388-350DC8EC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091C-D1F2-42B7-89BE-316D0648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9981-DFDD-43D3-A0D1-0BFE6336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CC7D-2090-482F-BD26-043175A1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14C-1994-4F95-9DDB-C80DB3AF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A3E5-C34D-4F21-AFE2-FB6BC24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EF71-AA69-42C1-BC92-7EA31FB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9577-18BD-4125-8981-75DDC470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3493-344A-41EA-AFE9-4F8C91FD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921C-A09B-44D0-B9CD-7BC127E4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019-BA07-4196-8D8A-A50CA72B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C1A-DCF3-42F2-8313-5D3460D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4CB-EC3B-4C3E-9648-5A0BD2C1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AE0-46B9-41A7-B9D3-7A742252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DFD-9B45-41E1-BF42-74D7BAF7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351-2B44-4D04-B910-7C2BB35C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4CB-AA12-4D0F-8999-805010FD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7330-A3D8-44B4-85E9-F6E2CC476406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8C8E-A5B8-4C8C-8057-0EC632DC92F3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61c62"/>
                </a:solidFill>
                <a:latin typeface="Times New Roman"/>
              </a:rPr>
              <a:t>Importancia del agua potabl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6400800" cy="2971800"/>
          </a:xfrm>
          <a:prstGeom prst="rect">
            <a:avLst/>
          </a:prstGeom>
          <a:noFill/>
          <a:ln w="9360">
            <a:solidFill>
              <a:srgbClr val="a7b4b7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2a7e"/>
                </a:solidFill>
                <a:latin typeface="Times New Roman"/>
              </a:rPr>
              <a:t>Departamento de Saneamiento Básico y Ambiental Institucional.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Dirección Técnica de Servicios de Salu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2a7e"/>
                </a:solidFill>
                <a:latin typeface="Times New Roman"/>
              </a:rPr>
              <a:t>Caja Costarricense de Seguro Socia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2a7e"/>
                </a:solidFill>
                <a:latin typeface="Times New Roman"/>
              </a:rPr>
              <a:t>TRANSMISIÓN POR EL AGU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1092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2a7e"/>
                </a:solidFill>
                <a:latin typeface="Times New Roman"/>
              </a:rPr>
              <a:t>Principales enfermedades por Gram </a:t>
            </a:r>
            <a:r>
              <a:rPr b="0" i="1" lang="es-ES_tradnl" sz="4000" spc="-1" strike="noStrike">
                <a:solidFill>
                  <a:srgbClr val="002a7e"/>
                </a:solidFill>
                <a:latin typeface="Times New Roman"/>
              </a:rPr>
              <a:t>-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Salmonelosis- Shigelosi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Pseudomona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Serratia marcescen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Acinetobacter spp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Enterobacter spp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Stenotrophomonas</a:t>
            </a:r>
            <a:r>
              <a:rPr b="0" lang="es-ES_tradnl" sz="2800" spc="-1" strike="noStrike">
                <a:solidFill>
                  <a:srgbClr val="002a7e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maltophili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Legionelosi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2a7e"/>
                </a:solidFill>
                <a:latin typeface="Times New Roman"/>
              </a:rPr>
              <a:t>TRANSMISIÓN POR EL AGU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1092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2a7e"/>
                </a:solidFill>
                <a:latin typeface="Times New Roman"/>
              </a:rPr>
              <a:t>OTROS AGENTES A CONSIDERAR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1092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2a7e"/>
                </a:solidFill>
                <a:latin typeface="Times New Roman"/>
              </a:rPr>
              <a:t>LEGIONELL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1092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2a7e"/>
                </a:solidFill>
                <a:latin typeface="Times New Roman"/>
              </a:rPr>
              <a:t>MYCOBACTERIAS “ATÍPICAS”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1092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2a7e"/>
                </a:solidFill>
                <a:latin typeface="Times New Roman"/>
              </a:rPr>
              <a:t>CRIPTOSPORIDIUM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2a7e"/>
                </a:solidFill>
                <a:latin typeface="Times New Roman"/>
              </a:rPr>
              <a:t>TRANSMISIÓN POR EL AGUA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092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2a7e"/>
                </a:solidFill>
                <a:latin typeface="Times New Roman"/>
              </a:rPr>
              <a:t>Fuentes directa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a7e"/>
                </a:solidFill>
                <a:latin typeface="Times New Roman"/>
              </a:rPr>
              <a:t>Agua potable-Agua de diálisis-Baño de agua tibia-Tinas-Máquinas de Hielo-Unidad denta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092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2a7e"/>
                </a:solidFill>
                <a:latin typeface="Times New Roman"/>
              </a:rPr>
              <a:t>Puntos de contaminación “en uso”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a7e"/>
                </a:solidFill>
                <a:latin typeface="Times New Roman"/>
              </a:rPr>
              <a:t>Lavatorio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a7e"/>
                </a:solidFill>
                <a:latin typeface="Times New Roman"/>
              </a:rPr>
              <a:t>Llave del agua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a7e"/>
                </a:solidFill>
                <a:latin typeface="Times New Roman"/>
              </a:rPr>
              <a:t>Aireadore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a7e"/>
                </a:solidFill>
                <a:latin typeface="Times New Roman"/>
              </a:rPr>
              <a:t>Ducha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a7e"/>
                </a:solidFill>
                <a:latin typeface="Times New Roman"/>
              </a:rPr>
              <a:t>Servicios sanitario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a7e"/>
                </a:solidFill>
                <a:latin typeface="Times New Roman"/>
              </a:rPr>
              <a:t>Flores con agua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61c62"/>
                </a:solidFill>
                <a:latin typeface="Times New Roman"/>
              </a:rPr>
              <a:t>Misión Institucion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09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Dar la mejor calidad de agua a los pacientes y al público en general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109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Asegurar a los pacientes que el agua de los Hospitales no es foco de ínfección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109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Informar a los asegurados los cuidados que se deben tener cuando el agua no es potable o está contaminada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61c62"/>
                </a:solidFill>
                <a:latin typeface="Times New Roman"/>
              </a:rPr>
              <a:t>Legislación Nacion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Reglamento para la “Calidad del Agua Potable”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2a7e"/>
                </a:solidFill>
                <a:latin typeface="Times New Roman"/>
              </a:rPr>
              <a:t>Decreto Nº25991-S Gaceta del 27 de mayo de 1997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61c62"/>
                </a:solidFill>
                <a:latin typeface="Times New Roman"/>
              </a:rPr>
              <a:t>Definicion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66"/>
                </a:solidFill>
                <a:latin typeface="Times New Roman"/>
              </a:rPr>
              <a:t>Agua potable:</a:t>
            </a:r>
            <a:r>
              <a:rPr b="0" i="1" lang="es-MX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Es toda agua que empleada para la ingesta humana, no causa daño a la salud y cumple con las disposiciones de valores recomendables o máximos admisibles estéticos, organolépticos, físicos, químicos, biológicos y microbiológicos emitidos en el Reglamento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61c62"/>
                </a:solidFill>
                <a:latin typeface="Times New Roman"/>
              </a:rPr>
              <a:t>Otras definicion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2a7e"/>
                </a:solidFill>
                <a:latin typeface="Times New Roman"/>
              </a:rPr>
              <a:t>Para que un agua sea potable debe estar exenta de sustancias nocivas para la salud humana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cc0066"/>
                </a:solidFill>
                <a:latin typeface="Times New Roman"/>
              </a:rPr>
              <a:t>Agua tratada:</a:t>
            </a:r>
            <a:r>
              <a:rPr b="0" i="1" lang="es-MX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es-MX" sz="2800" spc="-1" strike="noStrike">
                <a:solidFill>
                  <a:srgbClr val="002a7e"/>
                </a:solidFill>
                <a:latin typeface="Times New Roman"/>
              </a:rPr>
              <a:t>Corresponde al agua subterránea o superficial cuya calidad ha sido modificada por medio de procesos de tratamiento que incluyen como mínimo a la desinfección.  Su calidad debe ajustarse a lo establecido en el reglamento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61c62"/>
                </a:solidFill>
                <a:latin typeface="Times New Roman"/>
              </a:rPr>
              <a:t>Contaminantes en el agu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2057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09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Físico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b10925"/>
              </a:buClr>
              <a:buFont typeface="Wingdings" charset="2"/>
              <a:buChar char="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2a7e"/>
                </a:solidFill>
                <a:latin typeface="Times New Roman"/>
              </a:rPr>
              <a:t>Temperatura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b10925"/>
              </a:buClr>
              <a:buFont typeface="Wingdings" charset="2"/>
              <a:buChar char="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2a7e"/>
                </a:solidFill>
                <a:latin typeface="Times New Roman"/>
              </a:rPr>
              <a:t>Objetos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109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Químico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b10925"/>
              </a:buClr>
              <a:buFont typeface="Wingdings" charset="2"/>
              <a:buChar char="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2a7e"/>
                </a:solidFill>
                <a:latin typeface="Times New Roman"/>
              </a:rPr>
              <a:t>Metales pesados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b10925"/>
              </a:buClr>
              <a:buFont typeface="Wingdings" charset="2"/>
              <a:buChar char="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2a7e"/>
                </a:solidFill>
                <a:latin typeface="Times New Roman"/>
              </a:rPr>
              <a:t>Hidrocarburos 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b10925"/>
              </a:buClr>
              <a:buFont typeface="Wingdings" charset="2"/>
              <a:buChar char="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2a7e"/>
                </a:solidFill>
                <a:latin typeface="Times New Roman"/>
              </a:rPr>
              <a:t>Otros compuestos 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109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Biológico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b10925"/>
              </a:buClr>
              <a:buFont typeface="Wingdings" charset="2"/>
              <a:buChar char="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2a7e"/>
                </a:solidFill>
                <a:latin typeface="Times New Roman"/>
              </a:rPr>
              <a:t>Microorganismo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b10925"/>
              </a:buClr>
              <a:buFont typeface="Wingdings" charset="2"/>
              <a:buChar char="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2a7e"/>
                </a:solidFill>
                <a:latin typeface="Times New Roman"/>
              </a:rPr>
              <a:t>Plantas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61c62"/>
                </a:solidFill>
                <a:latin typeface="Times New Roman"/>
              </a:rPr>
              <a:t>Tamaño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429000"/>
            <a:ext cx="60984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286000"/>
            <a:ext cx="9144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343400"/>
            <a:ext cx="75960" cy="152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410080"/>
            <a:ext cx="75960" cy="76320"/>
          </a:xfrm>
          <a:prstGeom prst="ellipse">
            <a:avLst/>
          </a:prstGeom>
          <a:solidFill>
            <a:srgbClr val="061c62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4880" y="2292480"/>
            <a:ext cx="870120" cy="676080"/>
          </a:xfrm>
          <a:custGeom>
            <a:avLst/>
            <a:gdLst/>
            <a:ahLst/>
            <a:rect l="l" t="t" r="r" b="b"/>
            <a:pathLst>
              <a:path w="548" h="426">
                <a:moveTo>
                  <a:pt x="425" y="37"/>
                </a:moveTo>
                <a:cubicBezTo>
                  <a:pt x="384" y="28"/>
                  <a:pt x="345" y="12"/>
                  <a:pt x="305" y="0"/>
                </a:cubicBezTo>
                <a:cubicBezTo>
                  <a:pt x="259" y="7"/>
                  <a:pt x="222" y="24"/>
                  <a:pt x="178" y="37"/>
                </a:cubicBezTo>
                <a:cubicBezTo>
                  <a:pt x="151" y="55"/>
                  <a:pt x="134" y="79"/>
                  <a:pt x="103" y="90"/>
                </a:cubicBezTo>
                <a:cubicBezTo>
                  <a:pt x="79" y="114"/>
                  <a:pt x="59" y="118"/>
                  <a:pt x="36" y="142"/>
                </a:cubicBezTo>
                <a:cubicBezTo>
                  <a:pt x="18" y="190"/>
                  <a:pt x="0" y="263"/>
                  <a:pt x="36" y="306"/>
                </a:cubicBezTo>
                <a:cubicBezTo>
                  <a:pt x="54" y="328"/>
                  <a:pt x="76" y="346"/>
                  <a:pt x="96" y="366"/>
                </a:cubicBezTo>
                <a:cubicBezTo>
                  <a:pt x="118" y="388"/>
                  <a:pt x="129" y="408"/>
                  <a:pt x="156" y="426"/>
                </a:cubicBezTo>
                <a:cubicBezTo>
                  <a:pt x="183" y="423"/>
                  <a:pt x="225" y="425"/>
                  <a:pt x="253" y="411"/>
                </a:cubicBezTo>
                <a:cubicBezTo>
                  <a:pt x="286" y="394"/>
                  <a:pt x="314" y="370"/>
                  <a:pt x="350" y="359"/>
                </a:cubicBezTo>
                <a:cubicBezTo>
                  <a:pt x="402" y="307"/>
                  <a:pt x="337" y="365"/>
                  <a:pt x="417" y="321"/>
                </a:cubicBezTo>
                <a:cubicBezTo>
                  <a:pt x="426" y="316"/>
                  <a:pt x="432" y="306"/>
                  <a:pt x="440" y="299"/>
                </a:cubicBezTo>
                <a:cubicBezTo>
                  <a:pt x="462" y="281"/>
                  <a:pt x="488" y="270"/>
                  <a:pt x="515" y="262"/>
                </a:cubicBezTo>
                <a:cubicBezTo>
                  <a:pt x="522" y="257"/>
                  <a:pt x="535" y="256"/>
                  <a:pt x="537" y="247"/>
                </a:cubicBezTo>
                <a:cubicBezTo>
                  <a:pt x="548" y="207"/>
                  <a:pt x="506" y="168"/>
                  <a:pt x="477" y="149"/>
                </a:cubicBezTo>
                <a:cubicBezTo>
                  <a:pt x="472" y="142"/>
                  <a:pt x="468" y="133"/>
                  <a:pt x="462" y="127"/>
                </a:cubicBezTo>
                <a:cubicBezTo>
                  <a:pt x="456" y="121"/>
                  <a:pt x="446" y="119"/>
                  <a:pt x="440" y="112"/>
                </a:cubicBezTo>
                <a:cubicBezTo>
                  <a:pt x="437" y="108"/>
                  <a:pt x="426" y="71"/>
                  <a:pt x="425" y="67"/>
                </a:cubicBezTo>
                <a:cubicBezTo>
                  <a:pt x="416" y="41"/>
                  <a:pt x="411" y="51"/>
                  <a:pt x="425" y="37"/>
                </a:cubicBezTo>
                <a:close/>
              </a:path>
            </a:pathLst>
          </a:custGeom>
          <a:solidFill>
            <a:srgbClr val="d8d688"/>
          </a:solidFill>
          <a:ln w="9360">
            <a:solidFill>
              <a:srgbClr val="2d2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3581280"/>
            <a:ext cx="1066680" cy="1067040"/>
          </a:xfrm>
          <a:custGeom>
            <a:avLst/>
            <a:gdLst/>
            <a:ahLst/>
            <a:rect l="l" t="t" r="r" b="b"/>
            <a:pathLst>
              <a:path w="548" h="426">
                <a:moveTo>
                  <a:pt x="425" y="37"/>
                </a:moveTo>
                <a:cubicBezTo>
                  <a:pt x="384" y="28"/>
                  <a:pt x="345" y="12"/>
                  <a:pt x="305" y="0"/>
                </a:cubicBezTo>
                <a:cubicBezTo>
                  <a:pt x="259" y="7"/>
                  <a:pt x="222" y="24"/>
                  <a:pt x="178" y="37"/>
                </a:cubicBezTo>
                <a:cubicBezTo>
                  <a:pt x="151" y="55"/>
                  <a:pt x="134" y="79"/>
                  <a:pt x="103" y="90"/>
                </a:cubicBezTo>
                <a:cubicBezTo>
                  <a:pt x="79" y="114"/>
                  <a:pt x="59" y="118"/>
                  <a:pt x="36" y="142"/>
                </a:cubicBezTo>
                <a:cubicBezTo>
                  <a:pt x="18" y="190"/>
                  <a:pt x="0" y="263"/>
                  <a:pt x="36" y="306"/>
                </a:cubicBezTo>
                <a:cubicBezTo>
                  <a:pt x="54" y="328"/>
                  <a:pt x="76" y="346"/>
                  <a:pt x="96" y="366"/>
                </a:cubicBezTo>
                <a:cubicBezTo>
                  <a:pt x="118" y="388"/>
                  <a:pt x="129" y="408"/>
                  <a:pt x="156" y="426"/>
                </a:cubicBezTo>
                <a:cubicBezTo>
                  <a:pt x="183" y="423"/>
                  <a:pt x="225" y="425"/>
                  <a:pt x="253" y="411"/>
                </a:cubicBezTo>
                <a:cubicBezTo>
                  <a:pt x="286" y="394"/>
                  <a:pt x="314" y="370"/>
                  <a:pt x="350" y="359"/>
                </a:cubicBezTo>
                <a:cubicBezTo>
                  <a:pt x="402" y="307"/>
                  <a:pt x="337" y="365"/>
                  <a:pt x="417" y="321"/>
                </a:cubicBezTo>
                <a:cubicBezTo>
                  <a:pt x="426" y="316"/>
                  <a:pt x="432" y="306"/>
                  <a:pt x="440" y="299"/>
                </a:cubicBezTo>
                <a:cubicBezTo>
                  <a:pt x="462" y="281"/>
                  <a:pt x="488" y="270"/>
                  <a:pt x="515" y="262"/>
                </a:cubicBezTo>
                <a:cubicBezTo>
                  <a:pt x="522" y="257"/>
                  <a:pt x="535" y="256"/>
                  <a:pt x="537" y="247"/>
                </a:cubicBezTo>
                <a:cubicBezTo>
                  <a:pt x="548" y="207"/>
                  <a:pt x="506" y="168"/>
                  <a:pt x="477" y="149"/>
                </a:cubicBezTo>
                <a:cubicBezTo>
                  <a:pt x="472" y="142"/>
                  <a:pt x="468" y="133"/>
                  <a:pt x="462" y="127"/>
                </a:cubicBezTo>
                <a:cubicBezTo>
                  <a:pt x="456" y="121"/>
                  <a:pt x="446" y="119"/>
                  <a:pt x="440" y="112"/>
                </a:cubicBezTo>
                <a:cubicBezTo>
                  <a:pt x="437" y="108"/>
                  <a:pt x="426" y="71"/>
                  <a:pt x="425" y="67"/>
                </a:cubicBezTo>
                <a:cubicBezTo>
                  <a:pt x="416" y="41"/>
                  <a:pt x="411" y="51"/>
                  <a:pt x="425" y="37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2d2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2895480"/>
            <a:ext cx="304920" cy="304920"/>
          </a:xfrm>
          <a:custGeom>
            <a:avLst/>
            <a:gdLst/>
            <a:ahLst/>
            <a:rect l="l" t="t" r="r" b="b"/>
            <a:pathLst>
              <a:path w="281" h="315">
                <a:moveTo>
                  <a:pt x="94" y="150"/>
                </a:moveTo>
                <a:cubicBezTo>
                  <a:pt x="79" y="160"/>
                  <a:pt x="64" y="170"/>
                  <a:pt x="49" y="180"/>
                </a:cubicBezTo>
                <a:cubicBezTo>
                  <a:pt x="42" y="185"/>
                  <a:pt x="40" y="196"/>
                  <a:pt x="34" y="202"/>
                </a:cubicBezTo>
                <a:cubicBezTo>
                  <a:pt x="27" y="208"/>
                  <a:pt x="19" y="212"/>
                  <a:pt x="11" y="217"/>
                </a:cubicBezTo>
                <a:cubicBezTo>
                  <a:pt x="9" y="225"/>
                  <a:pt x="0" y="233"/>
                  <a:pt x="4" y="240"/>
                </a:cubicBezTo>
                <a:cubicBezTo>
                  <a:pt x="21" y="273"/>
                  <a:pt x="87" y="280"/>
                  <a:pt x="116" y="285"/>
                </a:cubicBezTo>
                <a:cubicBezTo>
                  <a:pt x="143" y="296"/>
                  <a:pt x="170" y="305"/>
                  <a:pt x="198" y="315"/>
                </a:cubicBezTo>
                <a:cubicBezTo>
                  <a:pt x="245" y="284"/>
                  <a:pt x="262" y="210"/>
                  <a:pt x="281" y="158"/>
                </a:cubicBezTo>
                <a:cubicBezTo>
                  <a:pt x="263" y="106"/>
                  <a:pt x="243" y="46"/>
                  <a:pt x="213" y="0"/>
                </a:cubicBezTo>
                <a:cubicBezTo>
                  <a:pt x="186" y="28"/>
                  <a:pt x="179" y="60"/>
                  <a:pt x="146" y="83"/>
                </a:cubicBezTo>
                <a:cubicBezTo>
                  <a:pt x="110" y="137"/>
                  <a:pt x="129" y="115"/>
                  <a:pt x="94" y="150"/>
                </a:cubicBezTo>
                <a:cubicBezTo>
                  <a:pt x="91" y="158"/>
                  <a:pt x="86" y="173"/>
                  <a:pt x="86" y="173"/>
                </a:cubicBezTo>
                <a:cubicBezTo>
                  <a:pt x="86" y="173"/>
                  <a:pt x="91" y="158"/>
                  <a:pt x="94" y="15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2d2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11960" y="3384720"/>
            <a:ext cx="641160" cy="617400"/>
          </a:xfrm>
          <a:custGeom>
            <a:avLst/>
            <a:gdLst/>
            <a:ahLst/>
            <a:rect l="l" t="t" r="r" b="b"/>
            <a:pathLst>
              <a:path w="404" h="389">
                <a:moveTo>
                  <a:pt x="135" y="90"/>
                </a:moveTo>
                <a:cubicBezTo>
                  <a:pt x="102" y="123"/>
                  <a:pt x="76" y="168"/>
                  <a:pt x="38" y="194"/>
                </a:cubicBezTo>
                <a:cubicBezTo>
                  <a:pt x="0" y="250"/>
                  <a:pt x="2" y="227"/>
                  <a:pt x="15" y="299"/>
                </a:cubicBezTo>
                <a:cubicBezTo>
                  <a:pt x="16" y="307"/>
                  <a:pt x="18" y="316"/>
                  <a:pt x="23" y="322"/>
                </a:cubicBezTo>
                <a:cubicBezTo>
                  <a:pt x="44" y="349"/>
                  <a:pt x="82" y="364"/>
                  <a:pt x="113" y="374"/>
                </a:cubicBezTo>
                <a:cubicBezTo>
                  <a:pt x="128" y="379"/>
                  <a:pt x="158" y="389"/>
                  <a:pt x="158" y="389"/>
                </a:cubicBezTo>
                <a:cubicBezTo>
                  <a:pt x="234" y="377"/>
                  <a:pt x="306" y="356"/>
                  <a:pt x="382" y="344"/>
                </a:cubicBezTo>
                <a:cubicBezTo>
                  <a:pt x="388" y="241"/>
                  <a:pt x="397" y="139"/>
                  <a:pt x="404" y="37"/>
                </a:cubicBezTo>
                <a:cubicBezTo>
                  <a:pt x="328" y="31"/>
                  <a:pt x="262" y="12"/>
                  <a:pt x="187" y="0"/>
                </a:cubicBezTo>
                <a:cubicBezTo>
                  <a:pt x="135" y="12"/>
                  <a:pt x="137" y="33"/>
                  <a:pt x="98" y="60"/>
                </a:cubicBezTo>
                <a:cubicBezTo>
                  <a:pt x="54" y="127"/>
                  <a:pt x="71" y="110"/>
                  <a:pt x="45" y="194"/>
                </a:cubicBezTo>
                <a:cubicBezTo>
                  <a:pt x="40" y="211"/>
                  <a:pt x="30" y="230"/>
                  <a:pt x="30" y="247"/>
                </a:cubicBezTo>
                <a:lnTo>
                  <a:pt x="89" y="124"/>
                </a:lnTo>
              </a:path>
            </a:pathLst>
          </a:custGeom>
          <a:solidFill>
            <a:srgbClr val="542a39"/>
          </a:solidFill>
          <a:ln w="9360">
            <a:solidFill>
              <a:srgbClr val="2d2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040" y="18432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Salmonell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9280" y="243540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0,8*2,0 </a:t>
            </a:r>
            <a:r>
              <a:rPr b="0" lang="es-MX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µ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5120" y="29862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2960" y="357840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0,5*1,0 </a:t>
            </a:r>
            <a:r>
              <a:rPr b="0" lang="es-MX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µ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2840" y="2754360"/>
            <a:ext cx="446040" cy="500040"/>
          </a:xfrm>
          <a:custGeom>
            <a:avLst/>
            <a:gdLst/>
            <a:ahLst/>
            <a:rect l="l" t="t" r="r" b="b"/>
            <a:pathLst>
              <a:path w="281" h="315">
                <a:moveTo>
                  <a:pt x="94" y="150"/>
                </a:moveTo>
                <a:cubicBezTo>
                  <a:pt x="79" y="160"/>
                  <a:pt x="64" y="170"/>
                  <a:pt x="49" y="180"/>
                </a:cubicBezTo>
                <a:cubicBezTo>
                  <a:pt x="42" y="185"/>
                  <a:pt x="40" y="196"/>
                  <a:pt x="34" y="202"/>
                </a:cubicBezTo>
                <a:cubicBezTo>
                  <a:pt x="27" y="208"/>
                  <a:pt x="19" y="212"/>
                  <a:pt x="11" y="217"/>
                </a:cubicBezTo>
                <a:cubicBezTo>
                  <a:pt x="9" y="225"/>
                  <a:pt x="0" y="233"/>
                  <a:pt x="4" y="240"/>
                </a:cubicBezTo>
                <a:cubicBezTo>
                  <a:pt x="21" y="273"/>
                  <a:pt x="87" y="280"/>
                  <a:pt x="116" y="285"/>
                </a:cubicBezTo>
                <a:cubicBezTo>
                  <a:pt x="143" y="296"/>
                  <a:pt x="170" y="305"/>
                  <a:pt x="198" y="315"/>
                </a:cubicBezTo>
                <a:cubicBezTo>
                  <a:pt x="245" y="284"/>
                  <a:pt x="262" y="210"/>
                  <a:pt x="281" y="158"/>
                </a:cubicBezTo>
                <a:cubicBezTo>
                  <a:pt x="263" y="106"/>
                  <a:pt x="243" y="46"/>
                  <a:pt x="213" y="0"/>
                </a:cubicBezTo>
                <a:cubicBezTo>
                  <a:pt x="186" y="28"/>
                  <a:pt x="179" y="60"/>
                  <a:pt x="146" y="83"/>
                </a:cubicBezTo>
                <a:cubicBezTo>
                  <a:pt x="110" y="137"/>
                  <a:pt x="129" y="115"/>
                  <a:pt x="94" y="150"/>
                </a:cubicBezTo>
                <a:cubicBezTo>
                  <a:pt x="91" y="158"/>
                  <a:pt x="86" y="173"/>
                  <a:pt x="86" y="173"/>
                </a:cubicBezTo>
                <a:cubicBezTo>
                  <a:pt x="86" y="173"/>
                  <a:pt x="91" y="158"/>
                  <a:pt x="94" y="150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2d2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7640" y="390060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Virus de influenz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43376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0,1 </a:t>
            </a:r>
            <a:r>
              <a:rPr b="0" lang="es-MX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µ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4320" y="504360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Virus de polio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1400" y="54244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0,025 </a:t>
            </a:r>
            <a:r>
              <a:rPr b="0" lang="es-MX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µ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76360" y="2452680"/>
            <a:ext cx="4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µ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10960" y="3886200"/>
            <a:ext cx="4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4</a:t>
            </a:r>
            <a:r>
              <a:rPr b="0" lang="es-MX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µ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6880" y="318456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0,5 </a:t>
            </a:r>
            <a:r>
              <a:rPr b="0" lang="es-MX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µ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1160" y="35193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8d688"/>
                </a:solidFill>
                <a:latin typeface="Times New Roman"/>
              </a:rPr>
              <a:t>1,5</a:t>
            </a:r>
            <a:r>
              <a:rPr b="0" lang="es-MX" sz="2000" spc="-1" strike="noStrike">
                <a:solidFill>
                  <a:srgbClr val="d8d688"/>
                </a:solidFill>
                <a:latin typeface="Times New Roman"/>
                <a:ea typeface="Times New Roman"/>
              </a:rPr>
              <a:t>µ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4560" y="412920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Partículas de coolinit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4240" y="1488960"/>
            <a:ext cx="230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d2525"/>
                </a:solidFill>
                <a:latin typeface="Times New Roman"/>
              </a:rPr>
              <a:t>Tamaños de microflóculos más frecuentes encontrados en los afluentes o los filtros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84840" y="5851440"/>
            <a:ext cx="5994720" cy="398880"/>
          </a:xfrm>
          <a:prstGeom prst="rect">
            <a:avLst/>
          </a:prstGeom>
          <a:solidFill>
            <a:srgbClr val="9cfc66"/>
          </a:solidFill>
          <a:ln w="9360">
            <a:solidFill>
              <a:srgbClr val="9cf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d2525"/>
                </a:solidFill>
                <a:latin typeface="Times New Roman"/>
              </a:rPr>
              <a:t>Tamaños comparados de microflóculos, bacterias y viru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61c62"/>
                </a:solidFill>
                <a:latin typeface="Times New Roman"/>
              </a:rPr>
              <a:t>Criterios para evaluar las enfermedades relacionadas con el agua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2590560"/>
            <a:ext cx="5562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109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Tipo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109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Incidenci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109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Intensida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109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Latenci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109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2a7e"/>
                </a:solidFill>
                <a:latin typeface="Times New Roman"/>
              </a:rPr>
              <a:t>Certidumbre de la ocurrenci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2a7e"/>
                </a:solidFill>
                <a:latin typeface="Times New Roman"/>
              </a:rPr>
              <a:t>TRANSMISIÓN POR EL AGU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1092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2a7e"/>
                </a:solidFill>
                <a:latin typeface="Times New Roman"/>
              </a:rPr>
              <a:t>Vías de transmisió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Contacto directo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10925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a7e"/>
                </a:solidFill>
                <a:latin typeface="Times New Roman"/>
              </a:rPr>
              <a:t>Hidroterapia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Ingesta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10925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a7e"/>
                </a:solidFill>
                <a:latin typeface="Times New Roman"/>
              </a:rPr>
              <a:t>Hielo contaminado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Contacto indirecto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10925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a7e"/>
                </a:solidFill>
                <a:latin typeface="Times New Roman"/>
              </a:rPr>
              <a:t>Equipo médico mal esterilizado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Inhalación de aerosol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10925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2a7e"/>
                </a:solidFill>
                <a:latin typeface="Times New Roman"/>
              </a:rPr>
              <a:t>Aspiración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00:27:37Z</dcterms:created>
  <dc:creator>personal</dc:creator>
  <dc:description/>
  <dc:language>en-US</dc:language>
  <cp:lastModifiedBy>personal</cp:lastModifiedBy>
  <dcterms:modified xsi:type="dcterms:W3CDTF">2001-09-11T02:06:59Z</dcterms:modified>
  <cp:revision>9</cp:revision>
  <dc:subject/>
  <dc:title>Importancia del agua potable</dc:title>
</cp:coreProperties>
</file>